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EC4B-1C8F-496A-AD37-90F17FE8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FAE2-3215-4375-AC96-8F6FAC90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07E7-7314-4298-B44C-ADE7102E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92BC-8FFB-436A-A82D-9F5C437B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8DA8-24D2-428E-836A-66D5EA07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68CA-98AE-4508-ACE5-87A83190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6EAC-A888-432A-8A6A-C1EFF5E1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33B0-3F20-4875-BB11-0502068B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5753-45B5-4EB6-B23D-F2BB50CA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6B3F-3838-4CC5-B8E7-FF4710E5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B3DE-6DAD-4572-A069-0113440A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746-F7D1-4CFB-BD03-2BCCF82E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4AB0-E945-4218-B285-6AFA50AD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7A94-CDF8-42F7-8BCA-629FF140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F235-CA86-4B96-AC29-C27505C2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D789-653E-4D95-B5BF-7D555125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2492-AD2E-45D6-A151-AA7854A0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F79-8496-451C-AA38-F7183244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ED7B-681F-447F-8476-1E5F812C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625-79E2-4209-8FC4-FDF8904A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178D-7313-4431-AE94-539388FE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569E-0D8C-4966-9A6F-2D9EC4DB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EFC1-53DC-4441-852B-E74EA38A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505E-B4F0-4938-AC07-55EB2B25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3199-58EB-41F6-A68F-5D21AAA8AD96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6B0A-3DB7-435D-B17F-5B5191935926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-609480"/>
            <a:ext cx="6870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hat does the Lord Chancellor sit on?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231240" y="502884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12960" y="4113720"/>
            <a:ext cx="298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Woolsack</a:t>
            </a: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50:4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